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2.jpeg" ContentType="image/jpeg"/>
  <Override PartName="/ppt/media/image5.pct" ContentType="image/x-pict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435-7961-4CFC-8742-E387F9F9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A85-0D36-4DFC-9281-9475331B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ED0-71EA-4878-A51F-BFBC3E3B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3D0-BD2A-4865-A7BA-B51E1AD2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D5C-7721-401F-8C3D-8AD14AEC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EE8-7E6E-47C9-912C-ED32E942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F35-6063-4427-B2CD-BB43C807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C4C-7FF6-4497-A46A-5C46F5E7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E6A-B17C-4502-B43D-1E5FD19D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4CF-EF69-4B1C-A452-E6EE1801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F9D-10F2-4556-AB5B-FA7019C5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D89-CB29-4427-924A-0C4E0857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CEFE-A1DB-4233-A2FF-8EFBE30F2479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orner@pog.su.se" TargetMode="External"/><Relationship Id="rId2" Type="http://schemas.openxmlformats.org/officeDocument/2006/relationships/hyperlink" Target="mailto:morner@pog.su.se" TargetMode="External"/><Relationship Id="rId3" Type="http://schemas.openxmlformats.org/officeDocument/2006/relationships/hyperlink" Target="mailto:morner@pog.su.se" TargetMode="External"/><Relationship Id="rId4" Type="http://schemas.openxmlformats.org/officeDocument/2006/relationships/hyperlink" Target="http://www.pog.su.se/" TargetMode="External"/><Relationship Id="rId5" Type="http://schemas.openxmlformats.org/officeDocument/2006/relationships/hyperlink" Target="http://www.pog.nu/" TargetMode="External"/><Relationship Id="rId6" Type="http://schemas.openxmlformats.org/officeDocument/2006/relationships/hyperlink" Target="http://www.pog.nu/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57200"/>
            <a:ext cx="861048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ate Holocene and Present Sea Leve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ils-Axel Mö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President (1999-2003)</a:t>
            </a:r>
            <a:r>
              <a:rPr b="0" lang="en-GB" sz="1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of the INQUA Commission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1" i="1" lang="en-GB" sz="1800" spc="-1" strike="noStrike">
                <a:solidFill>
                  <a:srgbClr val="993300"/>
                </a:solidFill>
                <a:latin typeface="Times New Roman"/>
              </a:rPr>
              <a:t>Sea Level Changes and Coastal 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Leader of the Maldives Project (from 2000-2005 on); </a:t>
            </a: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           </a:t>
            </a: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an international research project among sea level specia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Co-ordinator of the INTAS project on Geomagnetism and Climate (1998-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Head of Paleogeophysics &amp; Geodynamics at Stockholm University, Sw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                              </a:t>
            </a: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In the hot international sea level debate for 35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         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orner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@pog.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Times New Roman"/>
              </a:rPr>
              <a:t>              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                                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pog.su.se/sea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</a:rPr>
              <a:t>)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pog.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431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5334120"/>
            <a:ext cx="8458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Times New Roman"/>
              </a:rPr>
              <a:t>The new sea level curve of the Maldives; present level reached ~4000 BP, sea level strongly oscillating for regional dynamic reasons,  a drop in sea level ~1970, no rise in the last 30 yea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847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67280" y="304920"/>
            <a:ext cx="30481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0000"/>
                </a:solidFill>
                <a:latin typeface="Times New Roman"/>
              </a:rPr>
              <a:t>At ~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0000"/>
                </a:solidFill>
                <a:latin typeface="Times New Roman"/>
              </a:rPr>
              <a:t>Sea Level fell some 20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Causing ero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with sand de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Times New Roman"/>
              </a:rPr>
              <a:t>outward, down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Leaving an old fossil shor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Times New Roman"/>
              </a:rPr>
              <a:t>an old overgrewing surface of grey weathered cor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ff"/>
                </a:solidFill>
                <a:latin typeface="Times New Roman"/>
              </a:rPr>
              <a:t>The present sh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ff"/>
                </a:solidFill>
                <a:latin typeface="Times New Roman"/>
              </a:rPr>
              <a:t>has remained s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ff"/>
                </a:solidFill>
                <a:latin typeface="Times New Roman"/>
              </a:rPr>
              <a:t>for ~30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042920"/>
            <a:ext cx="815328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0000"/>
                </a:solidFill>
                <a:latin typeface="Times New Roman"/>
              </a:rPr>
              <a:t>Exploring some notorious si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0000"/>
                </a:solidFill>
                <a:latin typeface="Times New Roman"/>
              </a:rPr>
              <a:t>claimed to be in a ”flooding mod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ff"/>
                </a:solidFill>
                <a:latin typeface="Times New Roman"/>
              </a:rPr>
              <a:t>The Maldives: No rise but stability and fall ~19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ff"/>
                </a:solidFill>
                <a:latin typeface="Times New Roman"/>
              </a:rPr>
              <a:t>Tuvalu: No rising trend (tide gauge date from 197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ff"/>
                </a:solidFill>
                <a:latin typeface="Times New Roman"/>
              </a:rPr>
              <a:t>Vanuatu: No rising trend (tide gauge data from 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ff"/>
                </a:solidFill>
                <a:latin typeface="Times New Roman"/>
              </a:rPr>
              <a:t>Venice: No acceleration (rather the opposite ~197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ff"/>
                </a:solidFill>
                <a:latin typeface="Times New Roman"/>
              </a:rPr>
              <a:t>Eastern Mediterranean: Rise due to precipitation incre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02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152280"/>
            <a:ext cx="86868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Satellite altimetry is a new and important means of recording sea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The 1993-1999 record show </a:t>
            </a:r>
            <a:r>
              <a:rPr b="1" lang="en-GB" sz="2000" spc="-1" strike="noStrike">
                <a:solidFill>
                  <a:srgbClr val="333399"/>
                </a:solidFill>
                <a:latin typeface="Times New Roman"/>
              </a:rPr>
              <a:t>NO</a:t>
            </a: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 rising tr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Just a variability around a zero level (blue) + a major ENSO event (yello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943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Times New Roman"/>
              </a:rPr>
              <a:t>This data set was presented on the TOPEX/POSEIDON web-page, in their publications, and used by me in my paper in </a:t>
            </a:r>
            <a:r>
              <a:rPr b="0" i="1" lang="en-GB" sz="1800" spc="-1" strike="noStrike">
                <a:solidFill>
                  <a:srgbClr val="009999"/>
                </a:solidFill>
                <a:latin typeface="Times New Roman"/>
              </a:rPr>
              <a:t>Global and Planetary Changes</a:t>
            </a:r>
            <a:r>
              <a:rPr b="0" lang="en-GB" sz="1800" spc="-1" strike="noStrike">
                <a:solidFill>
                  <a:srgbClr val="009999"/>
                </a:solidFill>
                <a:latin typeface="Times New Roman"/>
              </a:rPr>
              <a:t>, vol. 40, 2004, p. 49-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1504800"/>
            <a:ext cx="7391520" cy="504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165240"/>
            <a:ext cx="883944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In 2003, a totally new record appeared on the web-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Now there was a trend of 2.3 mm/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This trend, however, comes from selected tide gauge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not satellite altimetry measur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38440" y="0"/>
            <a:ext cx="566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12800"/>
            <a:ext cx="9372600" cy="5245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52280"/>
            <a:ext cx="9144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333399"/>
                </a:solidFill>
                <a:latin typeface="Times New Roman"/>
              </a:rPr>
              <a:t>The ”flooding scenario” of IPCC does not concur with observational sea level facts. Therefore, it must be called-off as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333399"/>
                </a:solidFill>
                <a:latin typeface="Times New Roman"/>
              </a:rPr>
              <a:t>Today, we favour a 2100 value of  </a:t>
            </a:r>
            <a:r>
              <a:rPr b="1" lang="sv-SE" sz="2400" spc="-1" strike="noStrike">
                <a:solidFill>
                  <a:srgbClr val="ff0000"/>
                </a:solidFill>
                <a:latin typeface="Times New Roman"/>
              </a:rPr>
              <a:t>+5 cm </a:t>
            </a:r>
            <a:r>
              <a:rPr b="1" lang="sv-SE" sz="2400" spc="-1" strike="noStrike" u="sng">
                <a:solidFill>
                  <a:srgbClr val="ff0000"/>
                </a:solidFill>
                <a:uFillTx/>
                <a:latin typeface="Times New Roman"/>
              </a:rPr>
              <a:t>+</a:t>
            </a:r>
            <a:r>
              <a:rPr b="1" lang="sv-SE" sz="2400" spc="-1" strike="noStrike">
                <a:solidFill>
                  <a:srgbClr val="ff0000"/>
                </a:solidFill>
                <a:latin typeface="Times New Roman"/>
              </a:rPr>
              <a:t>1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38240"/>
            <a:ext cx="838188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466560"/>
            <a:ext cx="876312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There is no global sea level rise going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that will flood islands and low-lying coasts in the near-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5638680"/>
            <a:ext cx="86868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It is high time to face available observational fac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discard untenable model sce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and start discussing real threats in the re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95480" y="16747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739880"/>
            <a:ext cx="8534160" cy="34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333399"/>
                </a:solidFill>
                <a:latin typeface="Times New Roman"/>
              </a:rPr>
              <a:t>Today I launch a short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333399"/>
                </a:solidFill>
                <a:latin typeface="Times New Roman"/>
              </a:rPr>
              <a:t>entitl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0000"/>
                </a:solidFill>
                <a:latin typeface="Times New Roman"/>
              </a:rPr>
              <a:t>The Greatest Lie Ever T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333399"/>
                </a:solidFill>
                <a:latin typeface="Times New Roman"/>
              </a:rPr>
              <a:t>unfortunately I have to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333399"/>
                </a:solidFill>
                <a:latin typeface="Times New Roman"/>
              </a:rPr>
              <a:t>15 Australian dollars fo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90760" y="0"/>
            <a:ext cx="615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88880"/>
            <a:ext cx="91440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62485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9999"/>
                </a:solidFill>
                <a:latin typeface="Times New Roman"/>
              </a:rPr>
              <a:t>Many variables control the stability of a shor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91240" y="0"/>
            <a:ext cx="43527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109440"/>
            <a:ext cx="449604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Times New Roman"/>
              </a:rPr>
              <a:t>Sea Level Rose</a:t>
            </a: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for glacial eustatic reasons up to about 5000 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at, global sea level has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ominated by the redistribution of ocean water m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and by that ocean stored energ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 a feed-back coup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 the interchange of angular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rate of rot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etween the hydrosphere and solid Ea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y that driving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cean surface circ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nd its redistribu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ater masses &amp; h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sea level &amp; paleoclim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76320"/>
            <a:ext cx="868680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Horizontal Eust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cean Level Re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066680"/>
            <a:ext cx="449604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I have argued for over 2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hat sea level is changing dras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due to redistribution of water m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over the gl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nd even claimed tha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is the dominating 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for the last 50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1066680"/>
            <a:ext cx="403848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Satellite alti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records this differ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distribution of water m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between 1993 an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spite the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at we do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ccept the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n-going rise in sea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3919680"/>
            <a:ext cx="52578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1976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2160" y="987480"/>
            <a:ext cx="7583760" cy="5870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21276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Geneva"/>
              </a:rPr>
              <a:t>  </a:t>
            </a:r>
            <a:r>
              <a:rPr b="1" lang="en-GB" sz="1800" spc="-1" strike="noStrike">
                <a:solidFill>
                  <a:srgbClr val="009999"/>
                </a:solidFill>
                <a:latin typeface="Geneva"/>
              </a:rPr>
              <a:t>Present-to-Future Sea Level Changes: methods used and values obt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468440"/>
            <a:ext cx="9144000" cy="5389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150840"/>
            <a:ext cx="853416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The combined observational records (in mm/year) for the last 300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It shows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variations – ups and downs – but no trend</a:t>
            </a: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For year 2100, INQUA gives predictions in line with this rec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whilst the IPCC scenarios lie far above – way off – observation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20:03:12Z</dcterms:created>
  <dc:creator>pog pog</dc:creator>
  <dc:description/>
  <dc:language>en-US</dc:language>
  <cp:lastModifiedBy>pog pog</cp:lastModifiedBy>
  <dcterms:modified xsi:type="dcterms:W3CDTF">2007-08-08T06:03:35Z</dcterms:modified>
  <cp:revision>26</cp:revision>
  <dc:subject/>
  <dc:title>PowerPoint Presentation</dc:title>
</cp:coreProperties>
</file>